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C134-E7A3-490C-AC5C-6C68799A20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, специалисту необходимо спросить себя, насколько глубоко я готов говорить с родителями на тему суицида и его причинах, позаботиться о собственном эмоциональном состоянии; думать и планировать профилактическую работу с родителями от которой будет толк лучше в ресурс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E416-0F28-4355-A5BB-2D8A52E650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16C4-104A-4591-A828-0DB54B8043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ечисленные способы помочь необходимо уметь и не бояться делать каждому взрослому, работающему с детьми. И разъяснять это род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EF56-B70D-4E53-BE0D-57CED5BAAA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ечисленные способы помочь необходимо уметь дел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8EFF-402C-4AB9-B805-BE823C3B6C0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методы используют специалисты. Они же необходимы в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F069-B1E8-4292-9603-3D4DD6942B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ТД важен для подрост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6739-D25F-4A0B-A0CA-03503832F67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дителями важно говорить о отношениях между папой и мамой, которые будут служить детям опорой, о нахождение путей взаимодействия, общения друг с другом, несмотря на раз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моббинг, общение в Интернет – пространстве через социальные сети, чаты мгновенных сооб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EB95-EF95-4FB6-A06F-F6069BBC69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7CB6-2B63-47FE-B478-493DA1C8BE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ный фон. Сами по себе говорят о нездоровье, как физическом, так и психическом наличии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B1CC-106C-463B-B78A-861759835C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сами по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995-41AB-49C1-BCAB-4699AEAA1B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861-4079-4169-A3A0-752EDDC0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420-DD8D-4C3A-AD93-C8FF1708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DC4-841D-435D-B934-27F67479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AAA-C0E3-4E64-AFF0-A22E5C38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1BA-3D64-4EA9-B3A5-FBF247F7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298-AE1E-463F-AF28-213FC8FD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E280-BB6C-49A5-938D-37B7D3BA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2CE5-2997-4081-866D-1A464086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D56B-D7C7-4FA3-AF66-0103B15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77E-4093-4B1A-A527-416061EC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1C63-7AB8-4712-BB31-10F27D9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48A-3FBF-4007-9001-FBB9DA9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96D7-CEAA-4FF5-93CD-641337AB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29C2-0BB7-4927-B888-7C117FB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E35A-D69A-4E3E-8413-25E18814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EE92-20DE-41F6-8EA2-4B09E562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329C-807A-49FF-91EA-3766D2F9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9A66-9811-4BEF-B456-6CB186BB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166A-BE3F-4EA9-8291-CFDF208B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03F57-89EB-4A50-8F24-43454F40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5242-C7B2-492E-A8D3-0A981563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5AA5-B7F9-4F3C-9C1A-0141260F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8CF-6CCC-4EA0-8EEF-5FAEE1BE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DAAD-7B25-43B9-B978-458F7961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6C1E-E134-4C76-8F09-AB45EAC6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318F-ECE1-4406-BCE7-38CB1179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B03B-9987-4BEC-90DE-B2F9619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2A5F-197E-485D-A43A-2BAF94D2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83C9-2AEB-4201-B249-5B3F83CF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97CD-EC24-43C4-9AEB-7563F8EA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C240-9136-48F4-AD08-052A98E8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5C9D3-C5DA-4C4F-963B-EAFF1E78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773F-FC9C-4F9D-9F68-0D1650B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A3E-B00A-420E-A356-DA2D4B8F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3C825-B39B-4768-B214-0F33AA3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EA41-18F5-4386-8287-31202CFC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7E61-C946-416F-AD1A-6FD2F358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9AC3-1368-4C11-878F-99B73F68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4A3A-5C79-4300-9A8A-8108E9F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17B12-85C5-445D-AEE1-6890A02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357C-8E41-4E6A-9A9C-4B3E9584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993B-1EAF-4486-8A9C-69F15557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124E-87B3-42FE-9923-33BBD032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3A22C-7D93-4659-956E-60A31FA5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7AA-CAE1-4498-8EF8-52FB1A08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F28A-36F5-42BF-80DB-0E72F40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F7BD-5E97-4887-8734-28077AF8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AD88-1901-479B-8218-6ECCC4BA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6064D-73C3-4222-876A-99226300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E7DD-0CAF-48BF-A22D-510FA92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94A0-33CE-4789-82FD-953B3C1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2EA2-FF52-4B4F-8ED1-49390963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4BCF-C371-4C33-BA6C-CDFF99E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03B24-F650-4F8E-93AE-37D33FD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C811-253E-44FA-B585-DC34256B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30C-A91A-48D2-9D9A-51BF57D1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967D9-1D5A-4740-BAF5-A0FDF033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7DD7A-AEFD-440E-A84B-4E7CE731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52273-C279-4658-BE75-C7AA138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12A66-3163-4A92-872A-25C091DB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63FB4-3287-4D07-94E5-F8536888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CB425-734F-4D29-97B3-2448E5B4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5E878-BD9B-4D82-9590-01E0CDD7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1DA99-CD67-42E3-8BFD-ED18B989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D9DAC-41D4-48F9-A8B4-2FB62EB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9ADA0-8B93-4159-8751-A52D050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CE4-5173-48F2-95D7-B031F1E7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912AF-3A32-430B-91FF-471F91AC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6FB69-AB5D-4ED8-B9D1-E548DD27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74571-D32C-46CC-B07B-59A472EC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61CC-6316-42C8-AEB4-D2FB6137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EF16E-D1A2-4393-86C2-78D1A608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0A692-827C-46DA-A488-561FCA4D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EFB64-0A22-4164-BC00-8F8AD4BB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DE85-5390-4DC6-9CCA-6BA1256D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ED40D-FB61-4FDB-AB7D-EE68A36B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1ADC-C156-4363-B91D-6FFBD80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6D8-FCAC-4758-AA90-804732C8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5F0C-44CA-4686-B951-865440CE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EA78C-D88D-4774-9B1C-36A02FE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23912-F830-46FA-B672-43715F30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CBEE-1E65-4661-9D4D-E72F098D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D1BC-80BF-4F17-BED1-EA035FBD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F8A-9FAC-403B-B466-9E61C0D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49BF-E09C-4872-97B0-211012D2AAF7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3C6A-6F38-4A60-A635-D40B2F456191}" type="slidenum">
              <a:rPr b="0" lang="ru-RU" sz="2800" spc="-1" strike="noStrike">
                <a:solidFill>
                  <a:srgbClr val="47534c"/>
                </a:solidFill>
                <a:latin typeface="Garamon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66EE-E278-4875-9314-4165A578E8B5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6254-B178-4C30-ABDE-E4A7893B82F0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317B-0FBF-4AA2-9339-C1AF03CD2669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401B-99A8-4E9F-BBEA-35B747AD74C7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6F0A-8785-4D73-83F9-18D15BC5F934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1920" y="214200"/>
            <a:ext cx="8705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МБУ МП г.Казани «Комплексный Центр социального обслуживания детей и молодежи «Доверие»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Отделение психолого-педагогической помощи «Сердэш»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Предупреждение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суицидального поведения у детей и  подростков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руководитель ОППП «Сердэш»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Н.А.Сабирова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Казань 2017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0" name="Picture 10" descr="D:\Desktop\Основной рабочий стол\СЕРДЭШ ТЕКУЩЕЕ\ВАЖНОЕ\logo_new Сердэш.png"/>
          <p:cNvPicPr/>
          <p:nvPr/>
        </p:nvPicPr>
        <p:blipFill>
          <a:blip r:embed="rId1"/>
          <a:stretch/>
        </p:blipFill>
        <p:spPr>
          <a:xfrm>
            <a:off x="7286760" y="1571760"/>
            <a:ext cx="13809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СЛЕДУЕТ ОБРАЩАТЬ ВНИМАНИЕ НА СЛЕДУЮЩИЕ ЗАЯВЛЕНИЯ: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енавижу жизнь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всем будет лучше без меня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мне нечего ждать от жизн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они пожалеют о том, что мне сделал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е могу этого вынест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я стал обузой для всех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я покончу с собой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икому я не нужен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скоро все закончится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это выше моих сил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ЧТО МОГУТ ДЕЛАТЬ РОДИТЕЛИ И СПЕЦИАЛИСТЫ</a:t>
            </a:r>
            <a:br>
              <a:rPr sz="2200"/>
            </a:b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ДЛЯ  ПРЕДУПРЕЖДЕНИЯ СУИЦИДАЛЬНЫХ ПОПЫТОК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85480" y="1571760"/>
            <a:ext cx="8483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станавливайт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доброжелательные взаимоотношения со всеми детьм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Говорите с ребенком /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Важен эмоциональный контакт 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Дайте возможность выговориться ему. Слушайте со всем вниманием, не осуждая, что даёт возможность выговориться без боязни быть прерванным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покойно и доходчиво спрашивайте о тревожащей ситуации, без обвинения, «допроса» и осуждения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оявляйт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заботу,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оддержку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, участие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буйте понимать чувства, которые испытывает ребенок,  помогайте ему сохранить веру в себя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ЧТО МОГУТ ДЕЛАТЬ РОДИТЕЛИ И СПЕЦИАЛИСТЫ</a:t>
            </a:r>
            <a:br>
              <a:rPr sz="2200"/>
            </a:b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ДЛЯ  ПРЕДУПРЕЖДЕНИЯ СУИЦИДАЛЬНЫХ ПОПЫТОК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14200" y="142884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пределите источник дискомфорта, причину конфликта. Окажите помощь в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решении актуальной проблемы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пытайтесь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уменьшить степень психологической зависимости от причины,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повлекшей суицидальное поведение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селяйте надежду, что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облему можно решить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 Приведит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имеры конструктивного выхода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из подобной ситуации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чите использовать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тоды снятия психологического напряжения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могите ребенку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осознать личностные ресурсы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могите ему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определить реалистичную перспективу на будуще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РЕКОМЕНДАЦИИ ПО ПРОВЕДЕНИЮ БЕСЕДЫ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50012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Разговаривайте в спокойном месте, чтобы избежать возможности быть прерванным в беседе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деляйте всё внимание собеседнику, смотрите на него, удобно, без напряжения расположившись напротив, но не через стол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ерескажите то, что собеседник рассказал вам, чтобы он убедился, что вы действительно поняли суть услышанного и ничего не пропустил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Дайте возможность собеседнику высказаться, не перебивая его, и говорите только тогда, когда он перестанет говорить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Говорить без осуждения и пристрастия, что способствует усиление у собеседника чувства собственного достоинства; произносить только конструктивные фразы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ОМОЩЬ В СЛУЧАЯХ СУИЦИДАЛЬНО-ОРИЕНТИРОВАННОГО ПОВЕДЕНИЯ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258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Основные метод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Эмоциональная поддержк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воевременная  консультация специалист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оощрение положительных устремлений для облегчения ситуации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бучение социальным навыкам и умениям преодоления стресса 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собственном пример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1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ЕСЛИ У РЕБЕНКА ТЯЖЕЛОЕ ЭМОЦИОНАЛЬНОЕ СОСТОЯНИЕ (ВЫСОКИЙ РИСК СУИЦИДА)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14200" y="1571760"/>
            <a:ext cx="8501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 оставляйте ребенка одного/сообщите взрослому, кто отвечает за ребен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льзя в такой ситуации спорить с ребенком, обвинять,  осуждать, игнорировать его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Обязательно обратитесь к специалистам, направьте родителей на консультацию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(психиатру, психотерапевту, психологу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24000" y="33336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МБУ МП г. Казани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«Комплексный Центр социального обслуживания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детей и молодежи «Доверие»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Отделение психолого-педагогической помощи «Сердэш» 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Наши контакты: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г. Казань,   ул. Годовикова, 14, 2-ой подъезд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тро «Авиастроительная», ост. Максимов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Тел.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571-15-80 </a:t>
            </a: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www.kcsodoverie.ru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vk.com/serdesh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1" name="Picture 10" descr="D:\Desktop\Основной рабочий стол\СЕРДЭШ ТЕКУЩЕЕ\ВАЖНОЕ\logo_new Сердэш.png"/>
          <p:cNvPicPr/>
          <p:nvPr/>
        </p:nvPicPr>
        <p:blipFill>
          <a:blip r:embed="rId1"/>
          <a:stretch/>
        </p:blipFill>
        <p:spPr>
          <a:xfrm>
            <a:off x="3851280" y="1841400"/>
            <a:ext cx="147780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ЭКСТРЕННАЯ  ПСИХОЛОГИЧЕСКАЯ ПОМОЩЬ ПО ТЕЛЕФОНУ: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528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Телефон</a:t>
            </a: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Доверия</a:t>
            </a: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кризисной медико-психологической помощи «Сердеш 129»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279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-55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-80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382d"/>
                </a:solidFill>
                <a:latin typeface="Century Gothic"/>
              </a:rPr>
              <a:t>Анонимно     Круглосуточно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Телефон доверия  г. Казани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277 - 00 – 00 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(общая линия)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382d"/>
                </a:solidFill>
                <a:latin typeface="Century Gothic"/>
              </a:rPr>
              <a:t>Анонимно     Круглосуточно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ЭКСТРЕННАЯ  ПСИХОЛОГИЧЕСКАЯ ПОМОЩЬ ПО ТЕЛЕФОНУ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8360" y="131112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Century Gothic"/>
              </a:rPr>
              <a:t>Телефон Доверия для детей, подростков и их родителей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8-800-2000-122</a:t>
            </a: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82d"/>
                </a:solidFill>
                <a:latin typeface="Century Gothic"/>
              </a:rPr>
              <a:t>Анонимно       Бесплатно    Круглосуточно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6" name="Рисунок 3" descr="http://fond-detyam.ru/detskiy-telefon-doveriya/ДТД.JPG"/>
          <p:cNvPicPr/>
          <p:nvPr/>
        </p:nvPicPr>
        <p:blipFill>
          <a:blip r:embed="rId1"/>
          <a:stretch/>
        </p:blipFill>
        <p:spPr>
          <a:xfrm>
            <a:off x="7308720" y="3108240"/>
            <a:ext cx="15004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215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b7d72"/>
                </a:solidFill>
                <a:latin typeface="Book Antiqua"/>
              </a:rPr>
              <a:t>В ПОДРОСТКОВОМ ВОЗРАСТЕ, В СИЛУ ОСОБЕННОСТИ  РАЗВИТИЯ ЧЕЛОВЕКА НА ДАННОМ ВОЗРАСТНОМ ЭТАПЕ, </a:t>
            </a:r>
            <a:r>
              <a:rPr b="1" lang="ru-RU" sz="2000" spc="-1" strike="noStrike" u="sng">
                <a:solidFill>
                  <a:srgbClr val="6b7d72"/>
                </a:solidFill>
                <a:uFillTx/>
                <a:latin typeface="Book Antiqua"/>
              </a:rPr>
              <a:t>ЛЮБАЯ СИТУАЦИЯ МОЖЕТ БЫТЬ </a:t>
            </a:r>
            <a:r>
              <a:rPr b="1" lang="ru-RU" sz="2000" spc="-1" strike="noStrike">
                <a:solidFill>
                  <a:srgbClr val="6b7d72"/>
                </a:solidFill>
                <a:latin typeface="Book Antiqua"/>
              </a:rPr>
              <a:t>ГИПЕРБОЛИЗИРОВАНА, СТАТЬ  ТРАВМИРУЮЩЕЙ: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5001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много больших перемен в психологическом,     социальном, физиологическом план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время приобретения социальных навык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- умение конструктивно общаться /через ссоры, конфликтные ситуации, обесценивание опыта взрослых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- умение преподносить себя / через переживание насмешек, придирок, критики и т.п.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время болезненного поиска себя, своего места в жизни;    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много переживаний: ссоры с родителями, первая влюбленность, комплексы по поводу внешности, непростые отношения со сверстникам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потребность в близком друге, которому можно доверить свои тайны и страх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77151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ПОЧЕМУ ДЕТИ РЕШАЮТСЯ НА СУИЦИД…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первом  месте – сложная для ребенка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емейная обстановка,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.т.ч.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нфликтный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од, уход одного из родителей из семьи,  конфликты, насилие  между родными и близкими, жестокое обращение с ребенком, психологическое, физическое и    сексуальное насил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втором месте –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неразделенная любовь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третьем – конфликты со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верстниками, проблемы, связанные с обучение в школе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/преследование , отвержение, неприятие в реальном школьном пространстве, в виртуальных социальных сообществах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НОВНЫЕ МОТИВЫ СУИЦИДАЛЬНОГО ПОВЕДЕНИЯ У ДЕТЕЙ И ПОДРОСТКОВ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ереживание обиды, одиночества, отчужденности, непонима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Действительная или мнимая утрата любви родителей, неразделенное чувство или ревност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Завышенные требования , игнорирование как личност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ереживания, связанные со смертью, разводом или уходом родителей из семь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Чувство вины, стыда, оскорбленного самолюбия, самообвин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Боязнь позора, насмешек или униж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трах наказания, нежелания извиниться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Любовные неудачи, сексуальные эксцессы, беременност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Чувство мести, злобы, протеста; угроза или вымогательство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Желание привлечь к себе внимание, вызвать сочувствие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очувствие или подражание друзьям, героям фильмов, кумирам, влияние сообщества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b7d72"/>
                </a:solidFill>
                <a:latin typeface="Book Antiqua"/>
              </a:rPr>
              <a:t>ОСОБЕННОСТИ СУИЦИДАЛЬНОГО ПОВЕДЕНИЯ ПОДРОСТКОВ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2139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щущение безысходности, неразрешимости конфликта, чувство отчаяния и одиночества возникают в следствии отсутствия достаточного жизненного опыта,  юношеского максимализма, неумения предвидеть истинные последствия своих поступков и прогнозировать исходы сложившейся ситуации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собенности личности в подростковом возрасте: эмоциональная неустойчивость, повышенная внушаемость, сензитивность, импульсивность могут  формировать  предпосылки к суицидальному поведению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 95% случаев имеется отягощенный семейный анамнез: хронический алкоголизм родителей; характеропатии и личностные акцентуации родителей, создающие напряженность в семье; патология у родственников и родителей, депрессии, психозы, случаи суицидов в семьях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ОВЫШАЕТ РИСК СУИЦИДАЛЬНОГО ПОВЕДЕНИЯ У ПОДРОСТКОВ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35684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потребление алкоголя, наркотических препаратов /по статистике случаев с связанных с употреблением не было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сталость, длительный стресс /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время сдачи экзаменов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Конфликты, связанные с учебой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Чувство беспомощности,  безнадежност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тсутствие ситуации успеха в значимых видах деятельност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Материальные  трудности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собенности личности (повышенная эмоциональность, впечатлительность, импульсивность, демонстративность)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сихические расстройства, особенно тяжелые депрессии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Хронические или смертельные болезн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Тенденция к самоповреждению; агрессия,  направленная на себя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аличие предыдущей (незаконченной) попытки суицида, суицид в семье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ФИЗИОЛОГИЧЕСКИ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теря аппетита или чрезмерный импульсивный аппетит;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нижение или повышение веса тела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Бессонница или повышенная сонливость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шение ритма сна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шение менструального цикла;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астые жалобы на боли в животе, головные боли, постоянную усталость, сонливость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чащенный пульс, сердцебиени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вышенное артериальное давлени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ухость во рту, нехватка воздуха, ощущение стесненного дыхания, комка в горл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увство физической тяжест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412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ЭМОЦИОНАЛЬНЫ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8000" y="1642680"/>
            <a:ext cx="84358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ход от контактов, изоляция от друзей и семь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езапные приступы гнева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щущение скуки при деятельности, которая раньше приносила удовольствие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ссимистическая оценка прошлого, настоящего, отсутствие планов и перспектив в будущем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увство беспомощности и зависимост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амообвинения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авленность, безразличи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ревога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ор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ОВЕДЕНЧЕСКИ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4304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Резкое снижение активности в реальном мире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зменение привычек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еобычно пренебрежительное отношение к своему внешнему виду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клонность к неоправданно рискованным поступкам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Злоупотребление психоактивными веществами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ыбор тем разговора, книг, музыки, фильмов связанных со смертью и самоубийствам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ямые и косвенные сообщения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Шутки, иронические высказывания о бессмысленности жизни, желании умереть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зучение и приобретение  средств для совершения суицида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ообщения о конкретном плане суицида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ход из дома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исьма к близким, раздаривание вещей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ощание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2:30:56Z</dcterms:created>
  <dc:creator>User</dc:creator>
  <dc:description/>
  <dc:language>en-US</dc:language>
  <cp:lastModifiedBy>User</cp:lastModifiedBy>
  <dcterms:modified xsi:type="dcterms:W3CDTF">2017-03-24T13:02:25Z</dcterms:modified>
  <cp:revision>39</cp:revision>
  <dc:subject/>
  <dc:title>Слайд 1</dc:title>
</cp:coreProperties>
</file>